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919-AC84-4B81-98E3-83A5240A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2DF5-F4AC-4F03-A4F8-224EE2A0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645-93CF-4782-AF81-7D2C14D9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A47-F3F3-4835-807B-1B094E4E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23604-AFF8-4927-A4F9-D54E7864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AB19A-D1D5-40D4-9324-45B286AF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7675D-EF0C-420A-876E-845E52A8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CDA43-607E-4096-AF87-996AFBD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A667C-CFB3-40D6-ABE0-9F555F72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5BD9-3CBF-42F4-A7AF-0A7BA7E5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0D8C0-3E46-4CB7-B27F-4DBE9C2E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709-F92B-4503-A80A-04FAB30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DE198-C85C-4E0C-8ED6-9043D9D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9292E-0633-4660-83C1-3DDF352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FD332-FBD3-48E9-913B-BE4E9DE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FA3D9-C6B1-4A9E-8898-A6C2082F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EF594-1CC8-4761-8E3E-F9DBF114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8AD-A0A2-4325-A658-9766811C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85CE-40E3-4178-8676-DC09187A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495-5D10-4B49-B50D-2C44296C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667-0676-4751-9852-3ED94092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B62-E5CD-414A-A755-8D5F9BD1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52B-693F-494B-9822-E0520F8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A35-A43A-4AF9-8D0C-702EAC42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64C-0642-45A2-B8BE-0EB68FEB74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B46C-4983-4561-B763-01978E2F78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4582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Arial"/>
              </a:rPr>
              <a:t>Is Homework A Good Thing??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Over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 you think that homework is a good t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see if we can work out the answ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do this, we’re going to use two special strateg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P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Academic Controver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PMI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’re talking about HO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, we’re going to brainstorm…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Pl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inu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Interest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cademic Controvers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, we’re going to take part in a type of deb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tep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Form into teams of 4, and choose two ‘yes’ and two ‘no’ representa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The topic: All homework is to be immediately stop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Work out the yes and no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Present your argu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Now change s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Drop the yes and no, and then decide whether homework is to be stopp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5-08-22T12:35:2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